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FFC4-4C77-4FF5-9FCB-F6A5FE512A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FA54-8331-4781-9BDC-BF4BBADC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CA83C-FBD8-42DA-BB1F-B95A36D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FA8589-2107-45F5-80D7-16A5AC5D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577A31-044C-4F19-9F78-499D91A4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E94544-A877-41F2-AEEE-DE6532BD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9ACEAB-8AE0-419C-A7DF-99F7943B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F8996A-4ADB-43BC-9E99-1DE15EBB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F4CDE-57D5-4EB2-94CD-468BEA67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7A25FA-9059-4E85-86C6-394151DD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B150A2-032E-40C5-A08D-E983399134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4131-7791-40B2-A971-5E7219E68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E620-21D1-44D2-BBF2-CDD15858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301E-2596-4762-8563-F71B929A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05725-9CAE-4716-8FF0-55C69505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67670-79B7-4165-8136-196C0EBD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FEC7B-3418-4851-B9EC-25B805C7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ECD50-0ABB-49EA-94C9-6809013E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E344D-890A-411B-AF19-EA1DB07B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6070F-6452-424C-8BCD-5DDE2581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DB6F8-0A2F-479D-B513-8F04EB6E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D0DCE-99CC-4282-9918-B9F08900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962C8-0FFC-46E6-AAC2-EF8AEFF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3D2D-216D-4401-9A3E-C9FDED193B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F5039-E72F-4754-9A01-A96212F4B8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E8E526-F8D6-422C-BEC6-03B94B3A8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93E03-5582-43A4-977E-DC692052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D9B7BF-7608-435E-B5E5-7D693414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51A50-5183-441F-B682-D30165C6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02267-902C-4D62-8C73-CDC49253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1E5EB-747C-4248-9C45-3253350D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BE8F42-4281-4916-9BBC-A8B3C64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6C404-C550-4601-8480-AD82DDF0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95003F-97D9-46F9-9507-A6FEA082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AC145-4692-4470-BCCC-0B905FAE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73F971-19A2-45DC-A84C-1F4AFE91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4A9C36-280C-4C10-858E-54BCF790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2E5387-9AF9-4A00-B35E-AC170F57C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DDB8E-929C-4554-AD7A-1D1893471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FFB8C-7803-4FA0-99B2-0C2451D0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2BC81-A0C5-411A-81DF-DD7D5513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59E72-9D26-4A82-B92C-194FD16B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D2902-C8F8-4483-8933-BED314FB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BA3EC-D834-492C-8A20-0C971E6A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0B112-AD28-4AB2-8BB6-62759686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327D5-4E1F-40E0-9112-CDFFAF95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C6670-E2BD-4158-879A-E2F99316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5EE70-7E63-4B2E-8E24-B34BC59D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44F39-BEB0-4AF0-A09F-D80D7A5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86E94-7AD8-4BEA-BBF4-C56C0DF9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051A9-B2BB-49AC-98B6-B278C9F9D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0347E-7232-4777-B474-F24E4F0E9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A7C5B-9916-4744-9FB2-93641AB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C1A06-F4CB-48C2-AF81-2A1F1CF1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120E4-A534-4E08-B4CB-8B88B510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89915-1A28-451E-8CDF-F65F1723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D15CD-5A39-499E-B0D6-65CFD6D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C403A-A7F0-4817-9EBC-5288C6A3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E3A51-88FA-4DC8-AAEE-1A6DC0A4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01CBE-B347-4537-B724-3C1EA1B0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CA14C-6ACE-44E8-A0EA-CF6F46F4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2CBBC-4D26-476C-A717-12D1F21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5F826-DF0D-4447-85C2-B8CEEAE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84D5C-78C0-4C6A-82EF-87A12EC9C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BE982-72F0-4132-BBCA-5B44CF40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38909-5B8B-4E7E-B03D-F840D490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8C128-841F-4FC4-B539-C511E0E3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D5BE0-9676-4E34-9094-B0A828AA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69A45-8AC3-4A18-BD75-0B98C950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1D2E7-0459-462E-814F-B98A5CEF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75508-B53B-4286-A4BF-2B6A8F86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C7125-7026-457F-AA93-A6178BD6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64E5A-01C2-46A3-B907-2DF79CF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5824B-2B87-4E8F-A9EF-C96E490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5BF29-2268-4AF2-A8BF-22E11EC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6912F-2C01-4351-986F-9323FCF4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3CBD3-76C8-4D41-99E9-2EDA8D81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28272-57D6-4656-834B-73D15FBD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11D1E-A960-4E72-A299-060E1DAB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34B8C-C08C-4B1A-9A4B-0EAD5BE6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910EC-6F82-4447-BB45-F85F6A56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F4A0B-5023-4ACF-9D5B-F7A01D74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78FCA-E681-4590-82CD-BD801B54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1861E-4AEF-4C94-B0F8-533E87BE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AA612-C5BD-4303-81FA-434E3F1A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074D8-475D-41C1-9A0B-336C627E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8BBB7-1D14-444E-96EB-BA0E7EDD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3E00B-3F0B-413D-8D9C-9BF9E2E2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93D8F-BFAE-4F12-9451-B7800E15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26C28-4D90-465E-881C-6E7CC8FF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69C9D-AF92-44B9-AC82-55115550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D03ED-6EFE-4B28-9228-1CD7165F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6E6D1-35D7-4A88-AC8E-503A5AD1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6B6AF-9047-43A8-8B1D-AF35B272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98311-40A5-4ED7-B230-C4F018EF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2BFEE-89C7-4189-A64F-D6777796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8BFB1-B0C9-407A-AF5B-38CCED3A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A6DA4-8462-4CF9-83A5-D2E58549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28785-A90B-4387-8DC5-3AC9902B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5A91F-2763-454C-9D3D-38145E2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2E170-27F6-44B8-8368-07EB65CF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7232D-BAAB-4158-99B3-789F74D4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324D4-ED9B-4A38-B1DE-9BEB76DA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D805F-9141-40DC-A90B-43A58320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84559-108B-48F5-A935-12C6EC46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31BA1-55EF-4756-9F8C-8AE46CA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ADC68-9272-4CD9-BF92-67086DFC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B922F-67D0-4276-95F9-1A3FB1F3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135D6-CD0C-4152-8CEC-0E179C68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09E16-5E55-416E-811F-A09ACF5B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6C2C9-8C39-46C2-AC42-EF4DF230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361E-A3A4-45D1-9237-80B5EFED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E70BA-9541-46D7-804B-18BA57F7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BED69-9353-41C2-B2A1-ADD052B2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8D2E3-C0AF-4ADA-926D-21779AD0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94A79-A39F-45A4-8591-70F09883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54A4C-9E4B-4E7B-BC15-9DBFAF2E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B9017-4B69-425D-95F7-D4175595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D8CCF-8BB9-4093-A558-F22F6217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05D20-CAFC-4BDB-9828-B449974C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26386-648E-4FC7-9B3A-C565B7FB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08C51-7E37-4809-B785-1D995AEF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21137-E04D-4384-AAD6-05313804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2E53F-F69C-4385-A37D-B4115C0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99E5CD-9937-4FCB-8F41-125179A6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FDF73-AC5C-4659-8736-5D7ED0CD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1310E-3441-445E-930B-F2C4685C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24971-B8FE-4399-9646-BF2407CB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B02F9-F448-4C9D-82E9-D8BE1A5C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CC1B9-45E4-4399-BF89-19AC3381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3113B-C601-43CF-A406-94F72319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1101E-7DC7-4394-883F-8AE30AD3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27E4F-BFB5-4AFD-8A3E-90442AF6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75AC4-01F8-464F-B48F-64FA25CD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A64B-4E39-499F-8947-C27C4E7A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B7E82-2AC8-4A42-A29C-0B5FA939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B4419-0975-41A1-9052-3B98DE01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32C97-4AA8-4D96-8196-6A7C1C84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F2A96-7A52-448A-8429-A376AFF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84D33-0E19-4A2E-BD0B-AC3C0254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AF20C-439A-4D66-BEB7-A971D09C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5ACB6-94EC-4946-A3EC-83297EE9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65B8F-9A3E-46DF-8149-BCA0C824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F4CF8-F1C7-40D3-8A7A-1FD86450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5BB67-1A19-47BA-8903-0299BCDD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871BB-119C-433E-9CAE-72477E9D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CEAB7-DCFE-4356-A83C-195195F1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B8B92-1866-43FD-B9E4-54E679B7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CA6C9-10B4-46C3-9F64-22755BC4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04767-7FB1-4E14-AF35-9190FDD2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65B78-5D17-41C6-8E37-1E257FDC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91123C-2E30-49E6-B5A1-3E30822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64399-E541-4A61-82EB-7E7C1E97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6E5D7-DF17-4379-AFAD-4CE3AB7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0173B-8DF6-4990-9443-EB448B05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A63D8-A042-424C-A66B-34865862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B690A-AF94-491E-A711-08E64F4F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B540B-2AE7-430D-84EC-82527999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F9B0B-3272-4499-8E61-7441ED20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391F8-5105-4744-91FD-56490CF9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29242-706B-4481-AB02-3CC70080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444C9-5656-4801-84E0-124064B6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B8B40-70C3-4089-8229-B0C95C1E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9A7A1-1F2C-4049-92A6-03C3E72E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67DD7-6945-4AE4-BBD7-B739268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15D10-ECDC-4B9F-AD99-80CD758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400BD-F519-41F5-B61A-9B6889D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1D2C3-0426-43BF-AA3D-A71CB17CC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35A70-D69D-4964-A5E9-76511D77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568B0-9363-49F4-AA72-D0AFC8CA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4466E2-86E8-4CB1-8596-F4D4B186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2CE20-D9DA-4C25-9A1C-BAAC2726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585B4-FA33-4E1F-8127-3EB1E729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40097-60B2-41CD-887B-926E0589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1CBE7-E054-4B8D-B516-33DE84C0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AC997-DDD3-49DC-B2A7-A5F70C2D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54374E-0C44-49A8-888B-9016B6CD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6A7E9-4ED3-45D8-AD3C-5F8484FB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5B9E2-B6B4-4B23-BA39-199B5249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43AAB-A3FB-499A-B9B4-5E2A4D85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E2F733-D5FA-4110-91F7-3C0F9DBE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1B3946-F394-4AF4-85BA-2DF9047F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E0C34-8F6F-4DAC-ADBA-B6125C13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7C4073-D46A-4138-A324-49DC9432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A1FDC-ABCE-4518-A380-C8540624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A77ACA-9321-4F32-BE39-9E87DD92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B7931-54B2-47E4-9F33-F9C21C7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29DAE-F922-4112-90CC-D31DBDE9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C6FF0-3184-490A-A674-ED74BE28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FE296-F036-4A1B-B689-8744AEB5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3BB4DF-C628-4EB2-BEFD-9654C9A0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C0934-ACDA-463E-8CB5-0E2154B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8E5F9-0CEE-42C4-8136-DF9E189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BFF702-1234-41D4-8F39-665BE36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1B0CA-3EB2-4573-BD94-F68E74B0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72890-CF81-4629-A3A7-73D831FA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FBA968-2804-42CB-BB5B-B99284CB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BF1D97-765E-4A9B-B529-1AF5789E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9DC011-148D-44F4-9BBE-08A2ECE4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F7EEA-70A5-4A0E-98A1-AB4B8DA1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D2E79-CAE5-49B5-8D80-045AA893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141348-F819-4E18-928F-D0E15FED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52E42-0E69-4BC2-8FB0-AF72BCD0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E59CBF-E86E-4D81-AF97-3059CBE3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C1408-5B62-4BD4-84A7-22FA7B5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754E3B-8748-46EA-9A13-31F52EBF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0F4804-15B5-44C1-979E-9DFDB775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A7906F-9588-4C01-8514-B5D24C70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3FFE14-A5A4-43B8-836D-B20AAECF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5B817-6D45-4338-A8D0-259F09B6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A3A2B-D052-43CB-A810-73570377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769C-C25F-42D7-84E2-6FCD732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D2ADE-3ABC-4EA3-8E7C-022B927B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8EE86-5F4C-4155-9DD6-7D0754E4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854FBB-D9B1-46F5-9E81-B641D031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83DB8-7AF0-4708-B15B-A484CEE6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0C9BB-1A18-4133-B110-00D7C251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93FF2-CE8E-4EA0-A123-AE9869D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10C214-5C74-4061-AD68-6BF52E86CD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DB4C-03AE-44AF-9531-30031A56A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3422-6589-4030-A178-42B04AC2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0FAC-25DC-4547-B054-2360D861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ED80-3ECE-45C4-BCD1-AB6DF23E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7E80-6663-40AC-872A-CF4E67E8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B241-36C6-44CE-92A9-FB6A31B5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37B5-4A7E-440A-A403-3E120E5F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DDAF-9303-453E-9167-80964D83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975D-BAD9-4D43-9C74-02DC37CC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F8AF-5CCD-4361-ACB8-1AC94E87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FD6D-EB27-4303-9879-A0E0E7D9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ABBA-F58C-4C9E-B57C-7AE28D68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F105-0372-4FE5-AC23-E78067305B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D20DE4-0E6E-48F9-BE29-547782B29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8AD9-8C4D-4553-BA72-66A6A9CA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DED94-719D-43E5-A422-F931C4A9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72E23C-2217-4F3E-812A-D1263BF0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D43C5-7B08-4BB7-8D26-A0C6FD93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5CE26-EEE8-475A-9431-705353CE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3AE98-D80F-4C7F-B42C-1C6E9AB7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88ED3-6BBF-4AE6-973A-B0014721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DEA089-F175-4A8A-946C-49AC2DEA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BE9D0-62BF-44D5-9193-E3F8C9A8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D3E3A-F45F-4036-852A-516D18BB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BBD53-68F9-4C5D-8271-4B1182C2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C559-3D90-42CF-AE7B-F3B2154C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5C2A8-37F9-4BEE-AC45-66833B04F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F978B9-97AB-4A71-BCC7-0359D5F8D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02FE24-3E95-4243-AA7A-7EDF6522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9F3DAD-447D-484E-90E0-B528A32F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8F6483-3AFE-4CF6-BC75-B967C64B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D1D4A8-CE0E-4079-84BC-49430AB1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96EE22-AA65-41F3-92AB-535305B3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095A79-4879-4F9C-A297-D4169D96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B50DE9-B557-4D90-A0C5-CD9F8F3A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33F984-7218-4014-BCB3-C47BF538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D3615-43FA-452D-A493-A7689B5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398B6E-30FE-45A3-A8B0-DAAACBF7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EC5D33-27D8-4CB9-8BBD-C3027587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5956E7-69C8-41B5-98E9-8FC703B21F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F518-2159-4D93-BB89-49B1220F7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285C4-FA99-4D79-AAB1-34A3C01B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F2D4-9751-4950-B529-08C9B272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C454-654E-4544-8149-D65D10E8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56A1-4711-470F-BF61-0BD8375E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42BB4-568D-4233-8DE0-7175340B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2E5E0-95A1-420E-AF87-7071B7C6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56BC-4CB9-431D-AEF9-C7E6DF54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2AD04-3A6A-465F-A1A9-E1A4C783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F9AA1-729B-4B22-B06C-F78CE394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87D2-B2B8-4A2C-B0FD-2B5BE937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F338E-CFBF-4F61-82A8-89E5141C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9A38F-106E-4EC3-8859-198C7A9DA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537BC-6946-47E3-9977-35FD49D8D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E4011-C1FB-414B-AFBF-D5BC1520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D153B-92DE-4973-BC3E-14BFAC1F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5BC1B-95FF-4CF9-B530-C1939727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427BE-1B90-40DE-8ACE-4880BF95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F80C-AD09-4B91-ADC1-F3C95088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1B0BA-5B0F-4336-9D1F-668446C6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78618-1971-4FB4-B5EA-A416A2C7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39714-7F38-41CA-92AD-268609CB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F26E2-129F-443D-86F8-80F6468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5B126-4013-4FEB-BC70-D2C2104B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00F0E-853A-4631-839B-D136EBD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BEE33-6E2B-49FA-9E55-BD614C5579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955A8A-7A03-4637-A8C2-472E35A2C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EDEDDA-5699-460B-B0D3-149630A7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3731A-04F8-4FFC-93D1-847AE16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6988-759E-440D-A546-2D69A49112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96C-7FF0-4BE2-A304-C0C1EAED64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751E-1008-4324-9A73-6E0A3BF7E0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600F-E7BB-4480-AEB0-4C19A7444A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CD13-9791-43D7-8585-4F9461FA60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B1C9-5482-4089-9046-BEE228E462E2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BAF6-D313-485D-A672-445CBF48BA76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43C6-7977-47FD-ACA9-D7BC505C30B5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C6BD-ED50-4733-B09C-8481DE38C396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DE71-57F5-4428-9B4F-56A7E15A668A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E87-3366-4E0F-B0DD-7D31F2C7123B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9239-C453-44DD-9D1D-86E5F9F6CF5B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0214-7030-4F79-B83F-FD5923FCA0C7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1BCB-50D6-4E34-BA7B-03F3AEE42B0D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0328-EA79-4A9A-84F1-8E52DCE774B5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93E3-D6D6-48CC-8B8E-6BE6BC780B39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14DC-768C-491B-8600-532C3C392C8A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2CA4-D919-42B1-ACB9-AFD9E330BE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3FD0-29DB-4F79-BA90-C3696F900E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2512-4E3D-4E75-955F-A26E4E548A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4C04-06A7-4827-8725-3433477BEF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989B-75AF-4AA2-8D66-CEFA2F0A2F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B63D-B723-423E-86D3-46D3FA492B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303D-9A0E-46AF-9E78-AAD6F50E53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jpe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5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75000" y="295596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整 理 和 复 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816200"/>
            <a:ext cx="91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479760" cy="527040"/>
            <a:chOff x="0" y="101520"/>
            <a:chExt cx="3479760" cy="527040"/>
          </a:xfrm>
        </p:grpSpPr>
        <p:pic>
          <p:nvPicPr>
            <p:cNvPr id="99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63440" y="101520"/>
              <a:ext cx="331632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61880" cy="274320"/>
              <a:chOff x="0" y="196560"/>
              <a:chExt cx="461880" cy="274320"/>
            </a:xfrm>
          </p:grpSpPr>
          <p:sp>
            <p:nvSpPr>
              <p:cNvPr id="1001" name="椭圆 1"/>
              <p:cNvSpPr/>
              <p:nvPr/>
            </p:nvSpPr>
            <p:spPr>
              <a:xfrm rot="16200000">
                <a:off x="249480" y="35928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45160" y="3175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9480" y="23040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5160" y="21024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2640"/>
                <a:ext cx="38736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5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6000"/>
                <a:ext cx="38736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3200"/>
                <a:ext cx="38736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8736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图片 1" descr="图形8.tif"/>
          <p:cNvPicPr/>
          <p:nvPr/>
        </p:nvPicPr>
        <p:blipFill>
          <a:blip r:embed="rId8"/>
          <a:stretch/>
        </p:blipFill>
        <p:spPr>
          <a:xfrm>
            <a:off x="785880" y="1069920"/>
            <a:ext cx="7192800" cy="4695840"/>
          </a:xfrm>
          <a:prstGeom prst="rect">
            <a:avLst/>
          </a:prstGeom>
          <a:ln w="0">
            <a:noFill/>
          </a:ln>
        </p:spPr>
      </p:pic>
      <p:sp>
        <p:nvSpPr>
          <p:cNvPr id="1010" name="Rectangle 2"/>
          <p:cNvSpPr/>
          <p:nvPr/>
        </p:nvSpPr>
        <p:spPr>
          <a:xfrm>
            <a:off x="528480" y="-3960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宋体"/>
                <a:ea typeface="宋体"/>
              </a:rPr>
              <a:t>一、整理巩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13"/>
          <p:cNvSpPr/>
          <p:nvPr/>
        </p:nvSpPr>
        <p:spPr>
          <a:xfrm>
            <a:off x="1709640" y="180648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13"/>
          <p:cNvSpPr/>
          <p:nvPr/>
        </p:nvSpPr>
        <p:spPr>
          <a:xfrm>
            <a:off x="3724200" y="178920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13"/>
          <p:cNvSpPr/>
          <p:nvPr/>
        </p:nvSpPr>
        <p:spPr>
          <a:xfrm>
            <a:off x="5500800" y="179712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13"/>
          <p:cNvSpPr/>
          <p:nvPr/>
        </p:nvSpPr>
        <p:spPr>
          <a:xfrm>
            <a:off x="7588080" y="179712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13"/>
          <p:cNvSpPr/>
          <p:nvPr/>
        </p:nvSpPr>
        <p:spPr>
          <a:xfrm>
            <a:off x="1752480" y="354492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13"/>
          <p:cNvSpPr/>
          <p:nvPr/>
        </p:nvSpPr>
        <p:spPr>
          <a:xfrm>
            <a:off x="3809880" y="354168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13"/>
          <p:cNvSpPr/>
          <p:nvPr/>
        </p:nvSpPr>
        <p:spPr>
          <a:xfrm>
            <a:off x="5521320" y="355608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3"/>
          <p:cNvSpPr/>
          <p:nvPr/>
        </p:nvSpPr>
        <p:spPr>
          <a:xfrm>
            <a:off x="7397640" y="356724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3"/>
          <p:cNvSpPr/>
          <p:nvPr/>
        </p:nvSpPr>
        <p:spPr>
          <a:xfrm>
            <a:off x="1751040" y="529416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3"/>
          <p:cNvSpPr/>
          <p:nvPr/>
        </p:nvSpPr>
        <p:spPr>
          <a:xfrm>
            <a:off x="3625920" y="529416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3"/>
          <p:cNvSpPr/>
          <p:nvPr/>
        </p:nvSpPr>
        <p:spPr>
          <a:xfrm>
            <a:off x="5546880" y="53020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13"/>
          <p:cNvSpPr/>
          <p:nvPr/>
        </p:nvSpPr>
        <p:spPr>
          <a:xfrm>
            <a:off x="7585200" y="528336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72"/>
          <p:cNvGrpSpPr/>
          <p:nvPr/>
        </p:nvGrpSpPr>
        <p:grpSpPr>
          <a:xfrm>
            <a:off x="2050920" y="1630440"/>
            <a:ext cx="5597640" cy="1127880"/>
            <a:chOff x="2050920" y="1630440"/>
            <a:chExt cx="5597640" cy="1127880"/>
          </a:xfrm>
        </p:grpSpPr>
        <p:sp>
          <p:nvSpPr>
            <p:cNvPr id="1024" name="矩形 59"/>
            <p:cNvSpPr/>
            <p:nvPr/>
          </p:nvSpPr>
          <p:spPr>
            <a:xfrm>
              <a:off x="2050920" y="1630440"/>
              <a:ext cx="21258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矩形 61"/>
            <p:cNvSpPr/>
            <p:nvPr/>
          </p:nvSpPr>
          <p:spPr>
            <a:xfrm>
              <a:off x="2050920" y="2201760"/>
              <a:ext cx="21258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矩形 62"/>
            <p:cNvSpPr/>
            <p:nvPr/>
          </p:nvSpPr>
          <p:spPr>
            <a:xfrm>
              <a:off x="4633920" y="1630440"/>
              <a:ext cx="30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5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4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矩形 63"/>
            <p:cNvSpPr/>
            <p:nvPr/>
          </p:nvSpPr>
          <p:spPr>
            <a:xfrm>
              <a:off x="4389480" y="2225520"/>
              <a:ext cx="3014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5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3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TextBox 5"/>
          <p:cNvSpPr/>
          <p:nvPr/>
        </p:nvSpPr>
        <p:spPr>
          <a:xfrm>
            <a:off x="611280" y="973080"/>
            <a:ext cx="7520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笔算下面各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3381480" y="1633680"/>
            <a:ext cx="83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124"/>
          <p:cNvSpPr/>
          <p:nvPr/>
        </p:nvSpPr>
        <p:spPr>
          <a:xfrm>
            <a:off x="3381480" y="2201760"/>
            <a:ext cx="685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125"/>
          <p:cNvSpPr/>
          <p:nvPr/>
        </p:nvSpPr>
        <p:spPr>
          <a:xfrm>
            <a:off x="6667560" y="1633680"/>
            <a:ext cx="685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126"/>
          <p:cNvSpPr/>
          <p:nvPr/>
        </p:nvSpPr>
        <p:spPr>
          <a:xfrm>
            <a:off x="6667560" y="2203560"/>
            <a:ext cx="706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8"/>
          <p:cNvSpPr/>
          <p:nvPr/>
        </p:nvSpPr>
        <p:spPr>
          <a:xfrm>
            <a:off x="1881360" y="2998800"/>
            <a:ext cx="2259000" cy="220356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04"/>
          <p:cNvGrpSpPr/>
          <p:nvPr/>
        </p:nvGrpSpPr>
        <p:grpSpPr>
          <a:xfrm>
            <a:off x="1979640" y="3112920"/>
            <a:ext cx="2049480" cy="1974240"/>
            <a:chOff x="1979640" y="3112920"/>
            <a:chExt cx="2049480" cy="1974240"/>
          </a:xfrm>
        </p:grpSpPr>
        <p:sp>
          <p:nvSpPr>
            <p:cNvPr id="1035" name="Rectangle 5"/>
            <p:cNvSpPr/>
            <p:nvPr/>
          </p:nvSpPr>
          <p:spPr>
            <a:xfrm>
              <a:off x="1979640" y="3112920"/>
              <a:ext cx="204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60"/>
            <p:cNvSpPr/>
            <p:nvPr/>
          </p:nvSpPr>
          <p:spPr>
            <a:xfrm>
              <a:off x="2850480" y="4292280"/>
              <a:ext cx="266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72"/>
            <p:cNvSpPr/>
            <p:nvPr/>
          </p:nvSpPr>
          <p:spPr>
            <a:xfrm>
              <a:off x="2647800" y="3698640"/>
              <a:ext cx="11509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73"/>
            <p:cNvSpPr/>
            <p:nvPr/>
          </p:nvSpPr>
          <p:spPr>
            <a:xfrm>
              <a:off x="2260440" y="4057200"/>
              <a:ext cx="1662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 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2386080" y="4593960"/>
              <a:ext cx="1150920" cy="360"/>
              <a:chOff x="2386080" y="4593960"/>
              <a:chExt cx="1150920" cy="360"/>
            </a:xfrm>
          </p:grpSpPr>
          <p:sp>
            <p:nvSpPr>
              <p:cNvPr id="1040" name="Line 74"/>
              <p:cNvSpPr/>
              <p:nvPr/>
            </p:nvSpPr>
            <p:spPr>
              <a:xfrm>
                <a:off x="2386080" y="4593960"/>
                <a:ext cx="11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2386080" y="4593960"/>
                <a:ext cx="115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2" name="Text Box 75"/>
            <p:cNvSpPr/>
            <p:nvPr/>
          </p:nvSpPr>
          <p:spPr>
            <a:xfrm>
              <a:off x="2647800" y="4554360"/>
              <a:ext cx="4302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76"/>
            <p:cNvSpPr/>
            <p:nvPr/>
          </p:nvSpPr>
          <p:spPr>
            <a:xfrm>
              <a:off x="3078000" y="4554360"/>
              <a:ext cx="4302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AutoShape 8"/>
          <p:cNvSpPr/>
          <p:nvPr/>
        </p:nvSpPr>
        <p:spPr>
          <a:xfrm>
            <a:off x="4859280" y="2998800"/>
            <a:ext cx="2259000" cy="220356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Group 108"/>
          <p:cNvGrpSpPr/>
          <p:nvPr/>
        </p:nvGrpSpPr>
        <p:grpSpPr>
          <a:xfrm>
            <a:off x="4957920" y="3112920"/>
            <a:ext cx="2049480" cy="1974240"/>
            <a:chOff x="4957920" y="3112920"/>
            <a:chExt cx="2049480" cy="1974240"/>
          </a:xfrm>
        </p:grpSpPr>
        <p:sp>
          <p:nvSpPr>
            <p:cNvPr id="1046" name="Rectangle 5"/>
            <p:cNvSpPr/>
            <p:nvPr/>
          </p:nvSpPr>
          <p:spPr>
            <a:xfrm>
              <a:off x="4957920" y="3112920"/>
              <a:ext cx="2049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4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07"/>
            <p:cNvGrpSpPr/>
            <p:nvPr/>
          </p:nvGrpSpPr>
          <p:grpSpPr>
            <a:xfrm>
              <a:off x="5238720" y="3698640"/>
              <a:ext cx="1662120" cy="1388520"/>
              <a:chOff x="5238720" y="3698640"/>
              <a:chExt cx="1662120" cy="1388520"/>
            </a:xfrm>
          </p:grpSpPr>
          <p:sp>
            <p:nvSpPr>
              <p:cNvPr id="1048" name="Text Box 72"/>
              <p:cNvSpPr/>
              <p:nvPr/>
            </p:nvSpPr>
            <p:spPr>
              <a:xfrm>
                <a:off x="5626080" y="3698640"/>
                <a:ext cx="11509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  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73"/>
              <p:cNvSpPr/>
              <p:nvPr/>
            </p:nvSpPr>
            <p:spPr>
              <a:xfrm>
                <a:off x="5238720" y="4057200"/>
                <a:ext cx="1662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－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  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"/>
              <p:cNvGrpSpPr/>
              <p:nvPr/>
            </p:nvGrpSpPr>
            <p:grpSpPr>
              <a:xfrm>
                <a:off x="5364000" y="4593960"/>
                <a:ext cx="1151280" cy="360"/>
                <a:chOff x="5364000" y="4593960"/>
                <a:chExt cx="1151280" cy="360"/>
              </a:xfrm>
            </p:grpSpPr>
            <p:sp>
              <p:nvSpPr>
                <p:cNvPr id="1051" name="Line 74"/>
                <p:cNvSpPr/>
                <p:nvPr/>
              </p:nvSpPr>
              <p:spPr>
                <a:xfrm>
                  <a:off x="5364000" y="4593960"/>
                  <a:ext cx="1151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 txBox="1"/>
                <p:nvPr/>
              </p:nvSpPr>
              <p:spPr>
                <a:xfrm>
                  <a:off x="5364000" y="4593960"/>
                  <a:ext cx="115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 Box 75"/>
              <p:cNvSpPr/>
              <p:nvPr/>
            </p:nvSpPr>
            <p:spPr>
              <a:xfrm>
                <a:off x="5626080" y="4554360"/>
                <a:ext cx="4302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 Box 76"/>
              <p:cNvSpPr/>
              <p:nvPr/>
            </p:nvSpPr>
            <p:spPr>
              <a:xfrm>
                <a:off x="6056280" y="4554360"/>
                <a:ext cx="4302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TextBox 6"/>
            <p:cNvSpPr/>
            <p:nvPr/>
          </p:nvSpPr>
          <p:spPr>
            <a:xfrm>
              <a:off x="5646240" y="3276360"/>
              <a:ext cx="409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109"/>
          <p:cNvGrpSpPr/>
          <p:nvPr/>
        </p:nvGrpSpPr>
        <p:grpSpPr>
          <a:xfrm>
            <a:off x="250920" y="2927520"/>
            <a:ext cx="3034800" cy="2016000"/>
            <a:chOff x="250920" y="2927520"/>
            <a:chExt cx="3034800" cy="2016000"/>
          </a:xfrm>
        </p:grpSpPr>
        <p:grpSp>
          <p:nvGrpSpPr>
            <p:cNvPr id="1057" name="Group 110"/>
            <p:cNvGrpSpPr/>
            <p:nvPr/>
          </p:nvGrpSpPr>
          <p:grpSpPr>
            <a:xfrm>
              <a:off x="250920" y="2927520"/>
              <a:ext cx="2749320" cy="2016000"/>
              <a:chOff x="250920" y="2927520"/>
              <a:chExt cx="2749320" cy="2016000"/>
            </a:xfrm>
          </p:grpSpPr>
          <p:sp>
            <p:nvSpPr>
              <p:cNvPr id="1058" name="AutoShape 8"/>
              <p:cNvSpPr/>
              <p:nvPr/>
            </p:nvSpPr>
            <p:spPr>
              <a:xfrm>
                <a:off x="250920" y="2927520"/>
                <a:ext cx="2749320" cy="2016000"/>
              </a:xfrm>
              <a:prstGeom prst="roundRect">
                <a:avLst>
                  <a:gd name="adj" fmla="val 9894"/>
                </a:avLst>
              </a:prstGeom>
              <a:solidFill>
                <a:srgbClr val="ffffff"/>
              </a:solidFill>
              <a:ln w="2844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5"/>
              <p:cNvSpPr/>
              <p:nvPr/>
            </p:nvSpPr>
            <p:spPr>
              <a:xfrm>
                <a:off x="280800" y="2927520"/>
                <a:ext cx="26762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－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－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3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0" name="Group 113"/>
              <p:cNvGrpSpPr/>
              <p:nvPr/>
            </p:nvGrpSpPr>
            <p:grpSpPr>
              <a:xfrm>
                <a:off x="261720" y="3512880"/>
                <a:ext cx="1661760" cy="1388160"/>
                <a:chOff x="261720" y="3512880"/>
                <a:chExt cx="1661760" cy="1388160"/>
              </a:xfrm>
            </p:grpSpPr>
            <p:sp>
              <p:nvSpPr>
                <p:cNvPr id="1061" name="Text Box 72"/>
                <p:cNvSpPr/>
                <p:nvPr/>
              </p:nvSpPr>
              <p:spPr>
                <a:xfrm>
                  <a:off x="648720" y="3512880"/>
                  <a:ext cx="115056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8   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Text Box 73"/>
                <p:cNvSpPr/>
                <p:nvPr/>
              </p:nvSpPr>
              <p:spPr>
                <a:xfrm>
                  <a:off x="261720" y="3871080"/>
                  <a:ext cx="166176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－</a:t>
                  </a:r>
                  <a:r>
                    <a:rPr b="1" lang="zh-CN" sz="1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4  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"/>
                <p:cNvGrpSpPr/>
                <p:nvPr/>
              </p:nvGrpSpPr>
              <p:grpSpPr>
                <a:xfrm>
                  <a:off x="387000" y="4407840"/>
                  <a:ext cx="1150560" cy="360"/>
                  <a:chOff x="387000" y="4407840"/>
                  <a:chExt cx="1150560" cy="360"/>
                </a:xfrm>
              </p:grpSpPr>
              <p:sp>
                <p:nvSpPr>
                  <p:cNvPr id="1064" name="Line 74"/>
                  <p:cNvSpPr/>
                  <p:nvPr/>
                </p:nvSpPr>
                <p:spPr>
                  <a:xfrm>
                    <a:off x="387000" y="4407840"/>
                    <a:ext cx="1150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 txBox="1"/>
                  <p:nvPr/>
                </p:nvSpPr>
                <p:spPr>
                  <a:xfrm>
                    <a:off x="387000" y="4407840"/>
                    <a:ext cx="1150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Text Box 75"/>
                <p:cNvSpPr/>
                <p:nvPr/>
              </p:nvSpPr>
              <p:spPr>
                <a:xfrm>
                  <a:off x="648720" y="4368240"/>
                  <a:ext cx="42984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Text Box 76"/>
                <p:cNvSpPr/>
                <p:nvPr/>
              </p:nvSpPr>
              <p:spPr>
                <a:xfrm>
                  <a:off x="1078920" y="4368240"/>
                  <a:ext cx="42984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8" name="Group 119"/>
            <p:cNvGrpSpPr/>
            <p:nvPr/>
          </p:nvGrpSpPr>
          <p:grpSpPr>
            <a:xfrm>
              <a:off x="1623960" y="3512880"/>
              <a:ext cx="1661760" cy="1388160"/>
              <a:chOff x="1623960" y="3512880"/>
              <a:chExt cx="1661760" cy="1388160"/>
            </a:xfrm>
          </p:grpSpPr>
          <p:sp>
            <p:nvSpPr>
              <p:cNvPr id="1069" name="Text Box 72"/>
              <p:cNvSpPr/>
              <p:nvPr/>
            </p:nvSpPr>
            <p:spPr>
              <a:xfrm>
                <a:off x="2010960" y="3512880"/>
                <a:ext cx="115056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 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 Box 73"/>
              <p:cNvSpPr/>
              <p:nvPr/>
            </p:nvSpPr>
            <p:spPr>
              <a:xfrm>
                <a:off x="1623960" y="3871080"/>
                <a:ext cx="166176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－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  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1" name=""/>
              <p:cNvGrpSpPr/>
              <p:nvPr/>
            </p:nvGrpSpPr>
            <p:grpSpPr>
              <a:xfrm>
                <a:off x="1749240" y="4407840"/>
                <a:ext cx="1150560" cy="360"/>
                <a:chOff x="1749240" y="4407840"/>
                <a:chExt cx="1150560" cy="360"/>
              </a:xfrm>
            </p:grpSpPr>
            <p:sp>
              <p:nvSpPr>
                <p:cNvPr id="1072" name="Line 74"/>
                <p:cNvSpPr/>
                <p:nvPr/>
              </p:nvSpPr>
              <p:spPr>
                <a:xfrm>
                  <a:off x="1749240" y="4407840"/>
                  <a:ext cx="1150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 txBox="1"/>
                <p:nvPr/>
              </p:nvSpPr>
              <p:spPr>
                <a:xfrm>
                  <a:off x="1749240" y="4407840"/>
                  <a:ext cx="1150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4" name="Text Box 75"/>
              <p:cNvSpPr/>
              <p:nvPr/>
            </p:nvSpPr>
            <p:spPr>
              <a:xfrm>
                <a:off x="2010960" y="4368240"/>
                <a:ext cx="4298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76"/>
              <p:cNvSpPr/>
              <p:nvPr/>
            </p:nvSpPr>
            <p:spPr>
              <a:xfrm>
                <a:off x="2441160" y="4368240"/>
                <a:ext cx="4298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6" name="Group 125"/>
          <p:cNvGrpSpPr/>
          <p:nvPr/>
        </p:nvGrpSpPr>
        <p:grpSpPr>
          <a:xfrm>
            <a:off x="3132000" y="2927520"/>
            <a:ext cx="2746440" cy="2808000"/>
            <a:chOff x="3132000" y="2927520"/>
            <a:chExt cx="2746440" cy="2808000"/>
          </a:xfrm>
        </p:grpSpPr>
        <p:sp>
          <p:nvSpPr>
            <p:cNvPr id="1077" name="AutoShape 8"/>
            <p:cNvSpPr/>
            <p:nvPr/>
          </p:nvSpPr>
          <p:spPr>
            <a:xfrm>
              <a:off x="3132000" y="2927520"/>
              <a:ext cx="2746440" cy="2808000"/>
            </a:xfrm>
            <a:custGeom>
              <a:avLst/>
              <a:gdLst>
                <a:gd name="textAreaLeft" fmla="*/ 79560 w 2746440"/>
                <a:gd name="textAreaRight" fmla="*/ 2666880 w 2746440"/>
                <a:gd name="textAreaTop" fmla="*/ 79560 h 2808000"/>
                <a:gd name="textAreaBottom" fmla="*/ 2728440 h 2808000"/>
              </a:gdLst>
              <a:ahLst/>
              <a:rect l="textAreaLeft" t="textAreaTop" r="textAreaRight" b="textAreaBottom"/>
              <a:pathLst>
                <a:path w="21600" h="22084">
                  <a:moveTo>
                    <a:pt x="2137" y="0"/>
                  </a:moveTo>
                  <a:arcTo wR="2137" hR="2137" stAng="16200000" swAng="-5400000"/>
                  <a:lnTo>
                    <a:pt x="0" y="19947"/>
                  </a:lnTo>
                  <a:arcTo wR="2137" hR="2137" stAng="10800000" swAng="-5400000"/>
                  <a:lnTo>
                    <a:pt x="19463" y="22084"/>
                  </a:lnTo>
                  <a:arcTo wR="2137" hR="2137" stAng="5400000" swAng="-5400000"/>
                  <a:lnTo>
                    <a:pt x="21600" y="2137"/>
                  </a:lnTo>
                  <a:arcTo wR="2137" hR="2137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5"/>
            <p:cNvSpPr/>
            <p:nvPr/>
          </p:nvSpPr>
          <p:spPr>
            <a:xfrm>
              <a:off x="3160440" y="2927520"/>
              <a:ext cx="2676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5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3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9" name="Group 128"/>
            <p:cNvGrpSpPr/>
            <p:nvPr/>
          </p:nvGrpSpPr>
          <p:grpSpPr>
            <a:xfrm>
              <a:off x="3784320" y="3512880"/>
              <a:ext cx="1665360" cy="2220120"/>
              <a:chOff x="3784320" y="3512880"/>
              <a:chExt cx="1665360" cy="2220120"/>
            </a:xfrm>
          </p:grpSpPr>
          <p:grpSp>
            <p:nvGrpSpPr>
              <p:cNvPr id="1080" name="Group 129"/>
              <p:cNvGrpSpPr/>
              <p:nvPr/>
            </p:nvGrpSpPr>
            <p:grpSpPr>
              <a:xfrm>
                <a:off x="3784320" y="3512880"/>
                <a:ext cx="1662120" cy="1388520"/>
                <a:chOff x="3784320" y="3512880"/>
                <a:chExt cx="1662120" cy="1388520"/>
              </a:xfrm>
            </p:grpSpPr>
            <p:sp>
              <p:nvSpPr>
                <p:cNvPr id="1081" name="Text Box 72"/>
                <p:cNvSpPr/>
                <p:nvPr/>
              </p:nvSpPr>
              <p:spPr>
                <a:xfrm>
                  <a:off x="4171680" y="3512880"/>
                  <a:ext cx="115092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8   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Text Box 73"/>
                <p:cNvSpPr/>
                <p:nvPr/>
              </p:nvSpPr>
              <p:spPr>
                <a:xfrm>
                  <a:off x="3784320" y="3871440"/>
                  <a:ext cx="166212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－</a:t>
                  </a:r>
                  <a:r>
                    <a:rPr b="1" lang="zh-CN" sz="1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4   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3" name=""/>
                <p:cNvGrpSpPr/>
                <p:nvPr/>
              </p:nvGrpSpPr>
              <p:grpSpPr>
                <a:xfrm>
                  <a:off x="3909960" y="4408200"/>
                  <a:ext cx="1150920" cy="360"/>
                  <a:chOff x="3909960" y="4408200"/>
                  <a:chExt cx="1150920" cy="360"/>
                </a:xfrm>
              </p:grpSpPr>
              <p:sp>
                <p:nvSpPr>
                  <p:cNvPr id="1084" name="Line 74"/>
                  <p:cNvSpPr/>
                  <p:nvPr/>
                </p:nvSpPr>
                <p:spPr>
                  <a:xfrm>
                    <a:off x="3909960" y="4408200"/>
                    <a:ext cx="1150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 txBox="1"/>
                  <p:nvPr/>
                </p:nvSpPr>
                <p:spPr>
                  <a:xfrm>
                    <a:off x="3909960" y="4408200"/>
                    <a:ext cx="1150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Text Box 75"/>
                <p:cNvSpPr/>
                <p:nvPr/>
              </p:nvSpPr>
              <p:spPr>
                <a:xfrm>
                  <a:off x="4171680" y="4368600"/>
                  <a:ext cx="43020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Text Box 76"/>
                <p:cNvSpPr/>
                <p:nvPr/>
              </p:nvSpPr>
              <p:spPr>
                <a:xfrm>
                  <a:off x="4601880" y="4368600"/>
                  <a:ext cx="43020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Text Box 73"/>
              <p:cNvSpPr/>
              <p:nvPr/>
            </p:nvSpPr>
            <p:spPr>
              <a:xfrm>
                <a:off x="3787560" y="4703400"/>
                <a:ext cx="1662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－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  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913200" y="5240160"/>
                <a:ext cx="1150920" cy="360"/>
                <a:chOff x="3913200" y="5240160"/>
                <a:chExt cx="1150920" cy="360"/>
              </a:xfrm>
            </p:grpSpPr>
            <p:sp>
              <p:nvSpPr>
                <p:cNvPr id="1090" name="Line 74"/>
                <p:cNvSpPr/>
                <p:nvPr/>
              </p:nvSpPr>
              <p:spPr>
                <a:xfrm>
                  <a:off x="3913200" y="5240160"/>
                  <a:ext cx="1150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 txBox="1"/>
                <p:nvPr/>
              </p:nvSpPr>
              <p:spPr>
                <a:xfrm>
                  <a:off x="3913200" y="5240160"/>
                  <a:ext cx="1150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2" name="Text Box 75"/>
              <p:cNvSpPr/>
              <p:nvPr/>
            </p:nvSpPr>
            <p:spPr>
              <a:xfrm>
                <a:off x="4174920" y="5200200"/>
                <a:ext cx="4302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Text Box 76"/>
              <p:cNvSpPr/>
              <p:nvPr/>
            </p:nvSpPr>
            <p:spPr>
              <a:xfrm>
                <a:off x="4605120" y="5200200"/>
                <a:ext cx="4302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Group 142"/>
          <p:cNvGrpSpPr/>
          <p:nvPr/>
        </p:nvGrpSpPr>
        <p:grpSpPr>
          <a:xfrm>
            <a:off x="5946840" y="2927520"/>
            <a:ext cx="3092400" cy="2016000"/>
            <a:chOff x="5946840" y="2927520"/>
            <a:chExt cx="3092400" cy="2016000"/>
          </a:xfrm>
        </p:grpSpPr>
        <p:sp>
          <p:nvSpPr>
            <p:cNvPr id="1095" name="AutoShape 8"/>
            <p:cNvSpPr/>
            <p:nvPr/>
          </p:nvSpPr>
          <p:spPr>
            <a:xfrm>
              <a:off x="6027840" y="2927520"/>
              <a:ext cx="2903400" cy="201600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5"/>
            <p:cNvSpPr/>
            <p:nvPr/>
          </p:nvSpPr>
          <p:spPr>
            <a:xfrm>
              <a:off x="5946840" y="2949480"/>
              <a:ext cx="3092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5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3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Group 145"/>
            <p:cNvGrpSpPr/>
            <p:nvPr/>
          </p:nvGrpSpPr>
          <p:grpSpPr>
            <a:xfrm>
              <a:off x="6135840" y="3512880"/>
              <a:ext cx="1662120" cy="1388160"/>
              <a:chOff x="6135840" y="3512880"/>
              <a:chExt cx="1662120" cy="1388160"/>
            </a:xfrm>
          </p:grpSpPr>
          <p:sp>
            <p:nvSpPr>
              <p:cNvPr id="1098" name="Text Box 72"/>
              <p:cNvSpPr/>
              <p:nvPr/>
            </p:nvSpPr>
            <p:spPr>
              <a:xfrm>
                <a:off x="6523200" y="3512880"/>
                <a:ext cx="11509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 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Text Box 73"/>
              <p:cNvSpPr/>
              <p:nvPr/>
            </p:nvSpPr>
            <p:spPr>
              <a:xfrm>
                <a:off x="6135840" y="3871080"/>
                <a:ext cx="1662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－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  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0" name=""/>
              <p:cNvGrpSpPr/>
              <p:nvPr/>
            </p:nvGrpSpPr>
            <p:grpSpPr>
              <a:xfrm>
                <a:off x="6261480" y="4407840"/>
                <a:ext cx="1150920" cy="360"/>
                <a:chOff x="6261480" y="4407840"/>
                <a:chExt cx="1150920" cy="360"/>
              </a:xfrm>
            </p:grpSpPr>
            <p:sp>
              <p:nvSpPr>
                <p:cNvPr id="1101" name="Line 74"/>
                <p:cNvSpPr/>
                <p:nvPr/>
              </p:nvSpPr>
              <p:spPr>
                <a:xfrm>
                  <a:off x="6261480" y="4407840"/>
                  <a:ext cx="1150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 txBox="1"/>
                <p:nvPr/>
              </p:nvSpPr>
              <p:spPr>
                <a:xfrm>
                  <a:off x="6261480" y="4407840"/>
                  <a:ext cx="1150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75"/>
              <p:cNvSpPr/>
              <p:nvPr/>
            </p:nvSpPr>
            <p:spPr>
              <a:xfrm>
                <a:off x="6523200" y="4368240"/>
                <a:ext cx="430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Text Box 76"/>
              <p:cNvSpPr/>
              <p:nvPr/>
            </p:nvSpPr>
            <p:spPr>
              <a:xfrm>
                <a:off x="6953400" y="4368240"/>
                <a:ext cx="4302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72"/>
            <p:cNvSpPr/>
            <p:nvPr/>
          </p:nvSpPr>
          <p:spPr>
            <a:xfrm>
              <a:off x="7885080" y="3512880"/>
              <a:ext cx="11509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73"/>
            <p:cNvSpPr/>
            <p:nvPr/>
          </p:nvSpPr>
          <p:spPr>
            <a:xfrm>
              <a:off x="7497720" y="3871800"/>
              <a:ext cx="14191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7623000" y="4408560"/>
              <a:ext cx="1151280" cy="360"/>
              <a:chOff x="7623000" y="4408560"/>
              <a:chExt cx="1151280" cy="360"/>
            </a:xfrm>
          </p:grpSpPr>
          <p:sp>
            <p:nvSpPr>
              <p:cNvPr id="1108" name="Line 74"/>
              <p:cNvSpPr/>
              <p:nvPr/>
            </p:nvSpPr>
            <p:spPr>
              <a:xfrm>
                <a:off x="7623000" y="4408560"/>
                <a:ext cx="115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 txBox="1"/>
              <p:nvPr/>
            </p:nvSpPr>
            <p:spPr>
              <a:xfrm>
                <a:off x="7623000" y="4408560"/>
                <a:ext cx="11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0" name="Text Box 75"/>
            <p:cNvSpPr/>
            <p:nvPr/>
          </p:nvSpPr>
          <p:spPr>
            <a:xfrm>
              <a:off x="7885080" y="4368600"/>
              <a:ext cx="4302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76"/>
            <p:cNvSpPr/>
            <p:nvPr/>
          </p:nvSpPr>
          <p:spPr>
            <a:xfrm>
              <a:off x="8315280" y="4368600"/>
              <a:ext cx="4302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Box 6"/>
            <p:cNvSpPr/>
            <p:nvPr/>
          </p:nvSpPr>
          <p:spPr>
            <a:xfrm>
              <a:off x="6544440" y="3117600"/>
              <a:ext cx="409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6"/>
            <p:cNvSpPr/>
            <p:nvPr/>
          </p:nvSpPr>
          <p:spPr>
            <a:xfrm>
              <a:off x="7922520" y="3117600"/>
              <a:ext cx="409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Rectangle 158"/>
          <p:cNvSpPr/>
          <p:nvPr/>
        </p:nvSpPr>
        <p:spPr>
          <a:xfrm>
            <a:off x="18720" y="45784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组合 2"/>
          <p:cNvGrpSpPr/>
          <p:nvPr/>
        </p:nvGrpSpPr>
        <p:grpSpPr>
          <a:xfrm>
            <a:off x="0" y="101520"/>
            <a:ext cx="3909960" cy="527040"/>
            <a:chOff x="0" y="101520"/>
            <a:chExt cx="3909960" cy="527040"/>
          </a:xfrm>
        </p:grpSpPr>
        <p:pic>
          <p:nvPicPr>
            <p:cNvPr id="1116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87200" y="101520"/>
              <a:ext cx="3722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组合 4"/>
            <p:cNvGrpSpPr/>
            <p:nvPr/>
          </p:nvGrpSpPr>
          <p:grpSpPr>
            <a:xfrm>
              <a:off x="0" y="196560"/>
              <a:ext cx="520200" cy="274680"/>
              <a:chOff x="0" y="196560"/>
              <a:chExt cx="520200" cy="274680"/>
            </a:xfrm>
          </p:grpSpPr>
          <p:sp>
            <p:nvSpPr>
              <p:cNvPr id="1118" name="椭圆 7"/>
              <p:cNvSpPr/>
              <p:nvPr/>
            </p:nvSpPr>
            <p:spPr>
              <a:xfrm rot="16200000">
                <a:off x="259200" y="356400"/>
                <a:ext cx="102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9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96280" y="306000"/>
                <a:ext cx="22392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椭圆 29"/>
              <p:cNvSpPr/>
              <p:nvPr/>
            </p:nvSpPr>
            <p:spPr>
              <a:xfrm rot="16200000">
                <a:off x="259200" y="225000"/>
                <a:ext cx="102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96280" y="209160"/>
                <a:ext cx="2239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0040"/>
                <a:ext cx="444240" cy="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95560"/>
                <a:ext cx="444240" cy="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0680"/>
                <a:ext cx="444240" cy="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444240" cy="85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6" name="Rectangle 2"/>
          <p:cNvSpPr/>
          <p:nvPr/>
        </p:nvSpPr>
        <p:spPr>
          <a:xfrm>
            <a:off x="887400" y="-84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整理巩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8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0" name="椭圆 8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1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楷体_GB2312"/>
              </a:rPr>
              <a:t>一、整理巩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65"/>
          <p:cNvSpPr/>
          <p:nvPr/>
        </p:nvSpPr>
        <p:spPr>
          <a:xfrm>
            <a:off x="18720" y="46497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6"/>
          <p:cNvSpPr/>
          <p:nvPr/>
        </p:nvSpPr>
        <p:spPr>
          <a:xfrm>
            <a:off x="234720" y="48657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组合 29"/>
          <p:cNvGrpSpPr/>
          <p:nvPr/>
        </p:nvGrpSpPr>
        <p:grpSpPr>
          <a:xfrm>
            <a:off x="285840" y="996840"/>
            <a:ext cx="3998880" cy="1276560"/>
            <a:chOff x="285840" y="996840"/>
            <a:chExt cx="3998880" cy="1276560"/>
          </a:xfrm>
        </p:grpSpPr>
        <p:sp>
          <p:nvSpPr>
            <p:cNvPr id="1142" name="AutoShape 35"/>
            <p:cNvSpPr/>
            <p:nvPr/>
          </p:nvSpPr>
          <p:spPr>
            <a:xfrm>
              <a:off x="1728720" y="1026720"/>
              <a:ext cx="2556000" cy="891000"/>
            </a:xfrm>
            <a:prstGeom prst="wedgeRoundRectCallout">
              <a:avLst>
                <a:gd name="adj1" fmla="val -62106"/>
                <a:gd name="adj2" fmla="val -93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笔算加法和笔算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法要注意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3" name="图片 23" descr="恐龙副本.gif"/>
            <p:cNvPicPr/>
            <p:nvPr/>
          </p:nvPicPr>
          <p:blipFill>
            <a:blip r:embed="rId8"/>
            <a:stretch/>
          </p:blipFill>
          <p:spPr>
            <a:xfrm>
              <a:off x="285840" y="996840"/>
              <a:ext cx="1071360" cy="12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4" name="组合 32"/>
          <p:cNvGrpSpPr/>
          <p:nvPr/>
        </p:nvGrpSpPr>
        <p:grpSpPr>
          <a:xfrm>
            <a:off x="4067280" y="4278240"/>
            <a:ext cx="4862520" cy="1681200"/>
            <a:chOff x="4067280" y="4278240"/>
            <a:chExt cx="4862520" cy="1681200"/>
          </a:xfrm>
        </p:grpSpPr>
        <p:sp>
          <p:nvSpPr>
            <p:cNvPr id="1145" name="AutoShape 46"/>
            <p:cNvSpPr/>
            <p:nvPr/>
          </p:nvSpPr>
          <p:spPr>
            <a:xfrm>
              <a:off x="4067280" y="4278240"/>
              <a:ext cx="3382920" cy="1681200"/>
            </a:xfrm>
            <a:prstGeom prst="wedgeRoundRectCallout">
              <a:avLst>
                <a:gd name="adj1" fmla="val 57361"/>
                <a:gd name="adj2" fmla="val -191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步计算式题，有小括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先计算小括号里的；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小括号的按照从左往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顺序计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6" name="图片 21" descr="2.tif"/>
            <p:cNvPicPr/>
            <p:nvPr/>
          </p:nvPicPr>
          <p:blipFill>
            <a:blip r:embed="rId9"/>
            <a:stretch/>
          </p:blipFill>
          <p:spPr>
            <a:xfrm>
              <a:off x="7786800" y="4282920"/>
              <a:ext cx="1143000" cy="165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组合 34"/>
          <p:cNvGrpSpPr/>
          <p:nvPr/>
        </p:nvGrpSpPr>
        <p:grpSpPr>
          <a:xfrm>
            <a:off x="428760" y="4510080"/>
            <a:ext cx="3423960" cy="1419120"/>
            <a:chOff x="428760" y="4510080"/>
            <a:chExt cx="3423960" cy="1419120"/>
          </a:xfrm>
        </p:grpSpPr>
        <p:sp>
          <p:nvSpPr>
            <p:cNvPr id="1148" name="AutoShape 42"/>
            <p:cNvSpPr/>
            <p:nvPr/>
          </p:nvSpPr>
          <p:spPr>
            <a:xfrm>
              <a:off x="1835280" y="4510080"/>
              <a:ext cx="2017440" cy="1286280"/>
            </a:xfrm>
            <a:prstGeom prst="wedgeRoundRectCallout">
              <a:avLst>
                <a:gd name="adj1" fmla="val -58884"/>
                <a:gd name="adj2" fmla="val 189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个位上的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不够减时，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十位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9" name="图片 23" descr="3.tif"/>
            <p:cNvPicPr/>
            <p:nvPr/>
          </p:nvPicPr>
          <p:blipFill>
            <a:blip r:embed="rId10"/>
            <a:stretch/>
          </p:blipFill>
          <p:spPr>
            <a:xfrm flipH="1">
              <a:off x="428760" y="4640040"/>
              <a:ext cx="1087200" cy="12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0" name="组合 33"/>
          <p:cNvGrpSpPr/>
          <p:nvPr/>
        </p:nvGrpSpPr>
        <p:grpSpPr>
          <a:xfrm>
            <a:off x="1143000" y="2211480"/>
            <a:ext cx="3645000" cy="1711080"/>
            <a:chOff x="1143000" y="2211480"/>
            <a:chExt cx="3645000" cy="1711080"/>
          </a:xfrm>
        </p:grpSpPr>
        <p:sp>
          <p:nvSpPr>
            <p:cNvPr id="1151" name="AutoShape 48"/>
            <p:cNvSpPr/>
            <p:nvPr/>
          </p:nvSpPr>
          <p:spPr>
            <a:xfrm>
              <a:off x="2627280" y="2422440"/>
              <a:ext cx="2160720" cy="496440"/>
            </a:xfrm>
            <a:prstGeom prst="wedgeRoundRectCallout">
              <a:avLst>
                <a:gd name="adj1" fmla="val -58078"/>
                <a:gd name="adj2" fmla="val 3796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都从个位算起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2" name="图片 22" descr="1.jpg"/>
            <p:cNvPicPr/>
            <p:nvPr/>
          </p:nvPicPr>
          <p:blipFill>
            <a:blip r:embed="rId11"/>
            <a:stretch/>
          </p:blipFill>
          <p:spPr>
            <a:xfrm>
              <a:off x="1143000" y="2211480"/>
              <a:ext cx="1305000" cy="171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组合 31"/>
          <p:cNvGrpSpPr/>
          <p:nvPr/>
        </p:nvGrpSpPr>
        <p:grpSpPr>
          <a:xfrm>
            <a:off x="5045040" y="2425680"/>
            <a:ext cx="3384720" cy="1500480"/>
            <a:chOff x="5045040" y="2425680"/>
            <a:chExt cx="3384720" cy="1500480"/>
          </a:xfrm>
        </p:grpSpPr>
        <p:sp>
          <p:nvSpPr>
            <p:cNvPr id="1154" name="AutoShape 40"/>
            <p:cNvSpPr/>
            <p:nvPr/>
          </p:nvSpPr>
          <p:spPr>
            <a:xfrm>
              <a:off x="5045040" y="2639880"/>
              <a:ext cx="1974960" cy="1286280"/>
            </a:xfrm>
            <a:prstGeom prst="wedgeRoundRectCallout">
              <a:avLst>
                <a:gd name="adj1" fmla="val 61643"/>
                <a:gd name="adj2" fmla="val -107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位上的数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加满十，要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5" name="图片 20" descr="卡通人物副本.gif"/>
            <p:cNvPicPr/>
            <p:nvPr/>
          </p:nvPicPr>
          <p:blipFill>
            <a:blip r:embed="rId12"/>
            <a:stretch/>
          </p:blipFill>
          <p:spPr>
            <a:xfrm>
              <a:off x="7358040" y="2425680"/>
              <a:ext cx="1071720" cy="13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6" name="组合 30"/>
          <p:cNvGrpSpPr/>
          <p:nvPr/>
        </p:nvGrpSpPr>
        <p:grpSpPr>
          <a:xfrm>
            <a:off x="4716360" y="782640"/>
            <a:ext cx="3757680" cy="1461960"/>
            <a:chOff x="4716360" y="782640"/>
            <a:chExt cx="3757680" cy="1461960"/>
          </a:xfrm>
        </p:grpSpPr>
        <p:sp>
          <p:nvSpPr>
            <p:cNvPr id="1157" name="AutoShape 47"/>
            <p:cNvSpPr/>
            <p:nvPr/>
          </p:nvSpPr>
          <p:spPr>
            <a:xfrm>
              <a:off x="4716360" y="1270080"/>
              <a:ext cx="2592000" cy="891000"/>
            </a:xfrm>
            <a:prstGeom prst="wedgeRoundRectCallout">
              <a:avLst>
                <a:gd name="adj1" fmla="val 60273"/>
                <a:gd name="adj2" fmla="val -255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笔算加、减法都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把相同数位对齐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8" name="图片 28" descr="4.gif"/>
            <p:cNvPicPr/>
            <p:nvPr/>
          </p:nvPicPr>
          <p:blipFill>
            <a:blip r:embed="rId13"/>
            <a:stretch/>
          </p:blipFill>
          <p:spPr>
            <a:xfrm>
              <a:off x="7428960" y="782640"/>
              <a:ext cx="1045080" cy="1461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0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2" name="椭圆 2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3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0" name="Text Box 24"/>
          <p:cNvSpPr/>
          <p:nvPr/>
        </p:nvSpPr>
        <p:spPr>
          <a:xfrm>
            <a:off x="684360" y="1044720"/>
            <a:ext cx="741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 里填上“＞”“＜”或“＝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Picture 22" descr="22"/>
          <p:cNvPicPr/>
          <p:nvPr/>
        </p:nvPicPr>
        <p:blipFill>
          <a:blip r:embed="rId8"/>
          <a:stretch/>
        </p:blipFill>
        <p:spPr>
          <a:xfrm>
            <a:off x="1274760" y="2084400"/>
            <a:ext cx="5977080" cy="1935000"/>
          </a:xfrm>
          <a:prstGeom prst="rect">
            <a:avLst/>
          </a:prstGeom>
          <a:ln w="0">
            <a:noFill/>
          </a:ln>
        </p:spPr>
      </p:pic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楷体_GB2312"/>
              </a:rPr>
              <a:t>一、整理巩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6"/>
          <p:cNvSpPr/>
          <p:nvPr/>
        </p:nvSpPr>
        <p:spPr>
          <a:xfrm>
            <a:off x="2845440" y="27082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矩形 7"/>
          <p:cNvSpPr/>
          <p:nvPr/>
        </p:nvSpPr>
        <p:spPr>
          <a:xfrm>
            <a:off x="2837520" y="205740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矩形 10"/>
          <p:cNvSpPr/>
          <p:nvPr/>
        </p:nvSpPr>
        <p:spPr>
          <a:xfrm>
            <a:off x="2813760" y="336564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11"/>
          <p:cNvSpPr/>
          <p:nvPr/>
        </p:nvSpPr>
        <p:spPr>
          <a:xfrm>
            <a:off x="5874480" y="2076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5874480" y="337824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8"/>
          <p:cNvSpPr/>
          <p:nvPr/>
        </p:nvSpPr>
        <p:spPr>
          <a:xfrm>
            <a:off x="5893560" y="27255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Group 25"/>
          <p:cNvGrpSpPr/>
          <p:nvPr/>
        </p:nvGrpSpPr>
        <p:grpSpPr>
          <a:xfrm>
            <a:off x="5292720" y="3933720"/>
            <a:ext cx="3207960" cy="1721880"/>
            <a:chOff x="5292720" y="3933720"/>
            <a:chExt cx="3207960" cy="1721880"/>
          </a:xfrm>
        </p:grpSpPr>
        <p:pic>
          <p:nvPicPr>
            <p:cNvPr id="1180" name="Picture 20" descr="女天使"/>
            <p:cNvPicPr/>
            <p:nvPr/>
          </p:nvPicPr>
          <p:blipFill>
            <a:blip r:embed="rId9"/>
            <a:stretch/>
          </p:blipFill>
          <p:spPr>
            <a:xfrm flipH="1">
              <a:off x="7319520" y="3933720"/>
              <a:ext cx="11811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AutoShape 21"/>
            <p:cNvSpPr/>
            <p:nvPr/>
          </p:nvSpPr>
          <p:spPr>
            <a:xfrm>
              <a:off x="5292720" y="5159160"/>
              <a:ext cx="2317680" cy="496440"/>
            </a:xfrm>
            <a:prstGeom prst="wedgeRoundRectCallout">
              <a:avLst>
                <a:gd name="adj1" fmla="val 37245"/>
                <a:gd name="adj2" fmla="val -8796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算要准确哟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2" name="Picture 23" descr="22"/>
          <p:cNvPicPr/>
          <p:nvPr/>
        </p:nvPicPr>
        <p:blipFill>
          <a:blip r:embed="rId10"/>
          <a:srcRect l="25312" t="0" r="65049" b="66544"/>
          <a:stretch/>
        </p:blipFill>
        <p:spPr>
          <a:xfrm>
            <a:off x="1666800" y="1076400"/>
            <a:ext cx="5763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4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86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7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4" name="TextBox 1"/>
          <p:cNvSpPr/>
          <p:nvPr/>
        </p:nvSpPr>
        <p:spPr>
          <a:xfrm>
            <a:off x="1000080" y="1643040"/>
            <a:ext cx="64296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鸡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公鸡比母鸡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鸡比母鸡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。你能提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"/>
          <p:cNvSpPr/>
          <p:nvPr/>
        </p:nvSpPr>
        <p:spPr>
          <a:xfrm>
            <a:off x="457200" y="-12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学以致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13"/>
          <p:cNvSpPr/>
          <p:nvPr/>
        </p:nvSpPr>
        <p:spPr>
          <a:xfrm>
            <a:off x="3381480" y="3786120"/>
            <a:ext cx="1525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8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0" name="椭圆 2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1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8" name="Rectangle 2"/>
          <p:cNvSpPr/>
          <p:nvPr/>
        </p:nvSpPr>
        <p:spPr>
          <a:xfrm>
            <a:off x="441360" y="90360"/>
            <a:ext cx="51498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学以致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Box 2"/>
          <p:cNvSpPr/>
          <p:nvPr/>
        </p:nvSpPr>
        <p:spPr>
          <a:xfrm>
            <a:off x="2112840" y="1643040"/>
            <a:ext cx="4276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捆电线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一班先用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用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一共用去了多少米？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需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剩下的电线够不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Box 13"/>
          <p:cNvSpPr/>
          <p:nvPr/>
        </p:nvSpPr>
        <p:spPr>
          <a:xfrm>
            <a:off x="3029040" y="3346560"/>
            <a:ext cx="3433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8=5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13"/>
          <p:cNvSpPr/>
          <p:nvPr/>
        </p:nvSpPr>
        <p:spPr>
          <a:xfrm>
            <a:off x="3013200" y="4119480"/>
            <a:ext cx="343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00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58=4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13"/>
          <p:cNvSpPr/>
          <p:nvPr/>
        </p:nvSpPr>
        <p:spPr>
          <a:xfrm>
            <a:off x="3498840" y="4605480"/>
            <a:ext cx="3432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2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gt;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13"/>
          <p:cNvSpPr/>
          <p:nvPr/>
        </p:nvSpPr>
        <p:spPr>
          <a:xfrm>
            <a:off x="1239840" y="5353200"/>
            <a:ext cx="71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：一共用去了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58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米，剩下的电线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5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17" name="椭圆 4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8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5" name="TextBox 2"/>
          <p:cNvSpPr/>
          <p:nvPr/>
        </p:nvSpPr>
        <p:spPr>
          <a:xfrm>
            <a:off x="2077920" y="1643040"/>
            <a:ext cx="4703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今年多少岁？妈妈比爸爸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今年多少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组合 3"/>
          <p:cNvGrpSpPr/>
          <p:nvPr/>
        </p:nvGrpSpPr>
        <p:grpSpPr>
          <a:xfrm>
            <a:off x="928440" y="3143160"/>
            <a:ext cx="3071880" cy="1652760"/>
            <a:chOff x="928440" y="3143160"/>
            <a:chExt cx="3071880" cy="1652760"/>
          </a:xfrm>
        </p:grpSpPr>
        <p:sp>
          <p:nvSpPr>
            <p:cNvPr id="1227" name="AutoShape 46"/>
            <p:cNvSpPr/>
            <p:nvPr/>
          </p:nvSpPr>
          <p:spPr>
            <a:xfrm flipH="1">
              <a:off x="2214000" y="3643200"/>
              <a:ext cx="1785960" cy="496440"/>
            </a:xfrm>
            <a:prstGeom prst="wedgeRoundRectCallout">
              <a:avLst>
                <a:gd name="adj1" fmla="val 57351"/>
                <a:gd name="adj2" fmla="val -18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今年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岁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8" name="图片 21" descr="2.tif"/>
            <p:cNvPicPr/>
            <p:nvPr/>
          </p:nvPicPr>
          <p:blipFill>
            <a:blip r:embed="rId8"/>
            <a:stretch/>
          </p:blipFill>
          <p:spPr>
            <a:xfrm flipH="1">
              <a:off x="928440" y="3143160"/>
              <a:ext cx="1143000" cy="165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9" name="AutoShape 40"/>
          <p:cNvSpPr/>
          <p:nvPr/>
        </p:nvSpPr>
        <p:spPr>
          <a:xfrm>
            <a:off x="4429080" y="3429000"/>
            <a:ext cx="1974960" cy="496440"/>
          </a:xfrm>
          <a:prstGeom prst="wedgeRoundRectCallout">
            <a:avLst>
              <a:gd name="adj1" fmla="val 61643"/>
              <a:gd name="adj2" fmla="val -1406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比你大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图片 7" descr="5.gif"/>
          <p:cNvPicPr/>
          <p:nvPr/>
        </p:nvPicPr>
        <p:blipFill>
          <a:blip r:embed="rId9"/>
          <a:stretch/>
        </p:blipFill>
        <p:spPr>
          <a:xfrm>
            <a:off x="6786720" y="2786040"/>
            <a:ext cx="1193760" cy="171468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2"/>
          <p:cNvSpPr/>
          <p:nvPr/>
        </p:nvSpPr>
        <p:spPr>
          <a:xfrm>
            <a:off x="457200" y="-12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学以致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Box 13"/>
          <p:cNvSpPr/>
          <p:nvPr/>
        </p:nvSpPr>
        <p:spPr>
          <a:xfrm>
            <a:off x="2814480" y="4373640"/>
            <a:ext cx="3432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3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8=4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Box 13"/>
          <p:cNvSpPr/>
          <p:nvPr/>
        </p:nvSpPr>
        <p:spPr>
          <a:xfrm>
            <a:off x="2814480" y="4908600"/>
            <a:ext cx="3432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1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=3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13"/>
          <p:cNvSpPr/>
          <p:nvPr/>
        </p:nvSpPr>
        <p:spPr>
          <a:xfrm>
            <a:off x="1550880" y="5537160"/>
            <a:ext cx="6686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答：爸爸今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岁，妈妈今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0:29:14Z</dcterms:modified>
  <cp:revision>5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